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BAB-FDDD-4504-B8E0-ACBBCBB9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0C9-8B84-450D-861B-20E08390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20C-7C4E-4591-A9E1-37D94DBB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E73-E04F-4DD1-8DD8-279A1D78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8A13-C966-4371-82E7-71FAA519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EF2-E670-4DB7-970A-DF64111C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B850-5D20-4963-8E9C-D287DFC1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0244-64EA-4011-990C-5B39D403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06D8-FE1B-4B39-9D6F-CE093DDF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1B8-E6A2-4F05-A561-1C1D1A52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C135-FA50-4E56-AAFC-77BA562C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4F5-AC36-4CB7-AE36-E84832CD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CF99-AC49-4BAB-AF6A-20B953B58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7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468080" y="3018960"/>
            <a:ext cx="67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ВАЛИДНОСТ СИСТЕМАТСКИХ ПРЕГЛЕ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истематск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еглед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алидно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рађен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стематск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еглед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ухват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тролисан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ндомизиран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иничк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удиј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има одељак “МЕТОД у коме се описуј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Да ли су пронађене све релевантне студиј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Да ли је оцењена валидност сваке од укључених студиј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резултати конзистентни од студије до студиј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Како се утврђује конзистентност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моћу “шума графика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el-Haenzel-Pet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–вим тестом, који даје већу тежину студијама са мањом варијабилношћу резулт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зултат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истематског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еглед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линичк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начајн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во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итањ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говар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нализом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НТ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Needed to Trea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идети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езентацију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евалуацији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клиничких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тудија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 ли се резултати систематског прегледа могу применити на нашем пацијент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о зависи о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тепена сличности нашег пацијента са пацијентима из систематског прегле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ритеријума за укључивање и искључивање у клиничким студијама којима се бавио систематски прегл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ругим контролисаним условима клиничких студија којима се бавио систематски прегл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4-07-12T17:27:40Z</dcterms:modified>
  <cp:revision>60</cp:revision>
  <dc:subject/>
  <dc:title>Slide 1</dc:title>
</cp:coreProperties>
</file>